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%D8%A7%D8%B1%D8%AA%D9%81%D8%A7%D8%B92.wav" ContentType="audio/x-wav"/>
  <Override PartName="/ppt/media/image4.wmf" ContentType="image/x-wmf"/>
  <Override PartName="/ppt/media/%D8%B3%D8%AD%D9%91%D8%A7%D8%A82.wav" ContentType="audio/x-wav"/>
  <Override PartName="/ppt/media/PROJCTOR.WAV" ContentType="audio/x-wav"/>
  <Override PartName="/ppt/media/GLASS.WAV" ContentType="audio/x-wav"/>
  <Override PartName="/ppt/media/GU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C7D-9FEE-44BA-83C9-6DD92E9E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A7C-D213-46FC-8073-F62ADD3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D90-3F1B-4E47-8563-5FA334B7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CD2-F1CF-4FF4-86B8-DFCC477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0AA-5BDC-4F5C-B8C0-E639B07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A7B-C1D8-45E4-9730-277411F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269-7BE5-477E-A38D-D891176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D1A-6A24-400E-B72C-51E43D3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BF4-A873-4974-8018-62C15673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93C-4328-4DB0-BEF5-49BA9DD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F4C-2F34-41E4-8FE8-9A17D963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81F-6010-46DE-B7DE-A92C45CE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D80337-EE48-4536-AAA2-BAD9055F5E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audio" Target="../media/&#1587;&#1581;&#1617;&#1575;&#1576;2.wav"/><Relationship Id="rId6" Type="http://schemas.openxmlformats.org/officeDocument/2006/relationships/audio" Target="../media/PROJCTOR.WAV"/><Relationship Id="rId7" Type="http://schemas.openxmlformats.org/officeDocument/2006/relationships/audio" Target="../media/GLASS.WAV"/><Relationship Id="rId8" Type="http://schemas.openxmlformats.org/officeDocument/2006/relationships/audio" Target="../media/&#1575;&#1585;&#1578;&#1601;&#1575;&#1593;2.wav"/><Relationship Id="rId9" Type="http://schemas.openxmlformats.org/officeDocument/2006/relationships/audio" Target="../media/GUN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4267080" cy="2197080"/>
            <a:chOff x="0" y="0"/>
            <a:chExt cx="4267080" cy="2197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133720" y="0"/>
              <a:ext cx="2133360" cy="21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3720" cy="21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914400" y="228600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46000" y="3352680"/>
            <a:ext cx="1987560" cy="350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91120" y="3581280"/>
            <a:ext cx="441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الب 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%D8%B3%D8%AD%D9%91%D8%A7%D8%A8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8%A7%D8%B1%D8%AA%D9%81%D8%A7%D8%B9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75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عادل باحداد</dc:creator>
  <dc:description/>
  <dc:language>en-US</dc:language>
  <cp:lastModifiedBy>nour3iny</cp:lastModifiedBy>
  <dcterms:modified xsi:type="dcterms:W3CDTF">2010-01-02T15:48:12Z</dcterms:modified>
  <cp:revision>26</cp:revision>
  <dc:subject/>
  <dc:title>No Slide Title</dc:title>
</cp:coreProperties>
</file>